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C0E-068D-4397-AE63-6EDB4DF9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77D-4717-4EFE-A532-6BE4DA3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8FA-DB52-4D7B-8EC9-67B8E091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15A-5C3B-4EED-B98D-1C08DF50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7EC-CBA0-4348-87A8-48C87431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0278-0760-4CBD-AF35-B586F1D8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BA4-A8C8-4FDB-A8E6-1D3C4D8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F4E7-8309-48EB-B6E8-5E9BD243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11D-BCDF-4570-9448-32B3EC0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A30-5761-4A3E-BF11-08E1C97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34C-3EFB-4CE5-99B4-0BC8D6B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317-583E-4780-B004-D39C017F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A020-90EE-43A1-ACD8-E8F90BC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B6E3-B952-4A47-96B1-23F09F0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86A-98D1-492E-A6E9-DE422681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284-5479-4025-A37D-E8BA71C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18D-DAA8-4A62-A00E-79D0756A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DACC-E221-470C-8F66-C8CB2255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22CB-649D-454E-AE89-16051AA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281A-F90F-41CF-A0F5-44B67CCC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1C5C-4C11-43B3-8D61-C801C226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166A-F20D-43F6-A21B-328B093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052-7A7F-4FA5-B020-F247BDE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DF18-D334-4FDA-9FD8-598F2B4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CCE1-C06F-432B-965B-4886ADC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E527-DEBD-4655-8BF9-8780DAF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83C9-AF1E-4160-913E-77774A58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61CD-A65A-47DF-A698-BA62EB0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8D23-6BAD-404D-9791-D576F04F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B17C-982C-4334-B0E2-7C7EED1D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F572-60EB-4B9A-8008-74A157EF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B44F-25A1-4AAB-8C67-C0B2784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CDB2-2EE0-46F6-A5F7-017D35F5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3C7-6348-4FDE-B836-FE71F43F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CF36-927F-4955-BF5A-FB1D26C9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4ED3-025D-40A6-83B8-09BF9BB5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C8FC-0906-4E61-839A-F368A33A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5579-8735-4CAF-9DC0-BE84573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5BCB-B9AE-4162-8AF3-779B72F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8C02-1895-4BFE-AA48-FA06D0C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7846-3A95-4C79-86FB-5E53E86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4052-C797-4758-8D09-A4A4DF10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D27D-B3FD-4F80-9BCF-0D79AF99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2BE-5AB7-4B3D-B503-24E44F9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E0A-0793-4855-8A32-E29C94F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22B-382B-43BC-8A48-59636D2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AFB-9591-4567-87DB-8FF06EB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E93-FECA-4785-ADAB-A328ED7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89E1-2561-48CB-8610-EF26D3091ABE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CFA-63EF-46DD-9496-E9F2096CECA1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290-6502-4F70-896E-A9F07AD34400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3708-132B-439D-A9BD-7D3D10B068E0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Referente clásico de India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Jones y la última cruz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928800" y="5572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Zara Queralt Martíne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928800" y="71424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LAS FAS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1.El encargo prev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1                                                         1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1.1 : el rey de Eetes , Pelias , le hizo el encargo previo a Jasón, el vellocino de oro, para así coronarlo nuevo rey. Tal como el oráculo le decía al rey , un hombre con una  sola sandalia le arrebataría su reino. El la imagen 1.2 tenemos el encargo previo ,el santo grial, que su padre le pi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4 Imagen" descr="07000[1].jpg"/>
          <p:cNvPicPr/>
          <p:nvPr/>
        </p:nvPicPr>
        <p:blipFill>
          <a:blip r:embed="rId1"/>
          <a:stretch/>
        </p:blipFill>
        <p:spPr>
          <a:xfrm>
            <a:off x="1214280" y="2143080"/>
            <a:ext cx="1714680" cy="23925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encargo previo de indy.jpg"/>
          <p:cNvPicPr/>
          <p:nvPr/>
        </p:nvPicPr>
        <p:blipFill>
          <a:blip r:embed="rId2"/>
          <a:stretch/>
        </p:blipFill>
        <p:spPr>
          <a:xfrm>
            <a:off x="4572000" y="2143080"/>
            <a:ext cx="400068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CuadroTexto"/>
          <p:cNvSpPr/>
          <p:nvPr/>
        </p:nvSpPr>
        <p:spPr>
          <a:xfrm>
            <a:off x="714240" y="1071720"/>
            <a:ext cx="821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2.El viaje largo y accident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1                                                                  2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2.1:  Jasón y los argonautas  cruzando las rocas cianeas en su largo viaje accidentado así llamado por  sus numerosos  imprevistos durante este . En la imagen 2.2 :esta imagen representa a las rocas cianeas que tiene que pasa por el med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4 Imagen" descr="Image24[1].jpg"/>
          <p:cNvPicPr/>
          <p:nvPr/>
        </p:nvPicPr>
        <p:blipFill>
          <a:blip r:embed="rId1"/>
          <a:stretch/>
        </p:blipFill>
        <p:spPr>
          <a:xfrm>
            <a:off x="785880" y="1928880"/>
            <a:ext cx="318132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6 Imagen" descr="rocas cianeas en indiana jones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71920" cy="22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714240" y="114300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3.Llegada al lug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                                                             3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:llegada al lugar  y enfrentamiento por conseguir  el vellocino de oro . En la imagen 3.2  observamos que Indiana , tras la llegada al lugar destinado , tiene que enfrentarse con la competencia ,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4 Imagen" descr="mitojason1[1].jpg"/>
          <p:cNvPicPr/>
          <p:nvPr/>
        </p:nvPicPr>
        <p:blipFill>
          <a:blip r:embed="rId1"/>
          <a:stretch/>
        </p:blipFill>
        <p:spPr>
          <a:xfrm>
            <a:off x="857160" y="2143080"/>
            <a:ext cx="268308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viaje accidentado de indy.jpg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CuadroTexto"/>
          <p:cNvSpPr/>
          <p:nvPr/>
        </p:nvSpPr>
        <p:spPr>
          <a:xfrm>
            <a:off x="57168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4.La ayuda inesperada y amoro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4.1                                                                   4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4.1:  Aparece Medea , hija del rey, para ayudar a Jasón a pasar las pruebas para conseguir el vellocino de oro . En la 4.2 Indiana recibe la ayuda inesperada de  Elsa , la joven alemana que había ido contra él al principio de la búsqueda. Ayuda a elegir mal la copa a uno de los suyos par así darsela a Ind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5 Imagen" descr="jasonmedea[1].jpg"/>
          <p:cNvPicPr/>
          <p:nvPr/>
        </p:nvPicPr>
        <p:blipFill>
          <a:blip r:embed="rId1"/>
          <a:stretch/>
        </p:blipFill>
        <p:spPr>
          <a:xfrm>
            <a:off x="714240" y="207180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6 Imagen" descr="fsdadgag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43200" cy="27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CuadroTexto"/>
          <p:cNvSpPr/>
          <p:nvPr/>
        </p:nvSpPr>
        <p:spPr>
          <a:xfrm>
            <a:off x="571680" y="135720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5.Huída accidenta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.1                                                            5.2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Podemos observar   en la imagen 5.1 a los argonautas huyendo por el Danubio perseguidos por los  colcos  y luego los argonautas consiguieron la victor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la imagen 5.2 aparece la huida de India Jones  escapando de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5 Imagen" descr="argonautas1[1].jpg"/>
          <p:cNvPicPr/>
          <p:nvPr/>
        </p:nvPicPr>
        <p:blipFill>
          <a:blip r:embed="rId1"/>
          <a:stretch/>
        </p:blipFill>
        <p:spPr>
          <a:xfrm>
            <a:off x="785880" y="228600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212" name="3 Imagen" descr="persecucion.jpg"/>
          <p:cNvPicPr/>
          <p:nvPr/>
        </p:nvPicPr>
        <p:blipFill>
          <a:blip r:embed="rId2"/>
          <a:stretch/>
        </p:blipFill>
        <p:spPr>
          <a:xfrm>
            <a:off x="4286160" y="2286000"/>
            <a:ext cx="4143600" cy="23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3 CuadroTexto"/>
          <p:cNvSpPr/>
          <p:nvPr/>
        </p:nvSpPr>
        <p:spPr>
          <a:xfrm>
            <a:off x="571680" y="1285920"/>
            <a:ext cx="8143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6.Retorno victor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6.1                                                                     6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6.1: Jasón , tras pasar las pruebas que el rey le había impuesto , a logrado conseguir el vellocino de oro. En la siguiente imagen aparece Indiana Jones con el cáliz ,mediante la ayuda de su libro a logrado conseguirl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4 Imagen" descr="argonautas%20Jason%20De%20Erasmo%20Quellinus[1].jpg"/>
          <p:cNvPicPr/>
          <p:nvPr/>
        </p:nvPicPr>
        <p:blipFill>
          <a:blip r:embed="rId1"/>
          <a:stretch/>
        </p:blipFill>
        <p:spPr>
          <a:xfrm>
            <a:off x="714240" y="22147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5 Imagen" descr="indiana con el cáliz.jpg"/>
          <p:cNvPicPr/>
          <p:nvPr/>
        </p:nvPicPr>
        <p:blipFill>
          <a:blip r:embed="rId2"/>
          <a:stretch/>
        </p:blipFill>
        <p:spPr>
          <a:xfrm>
            <a:off x="5000760" y="221472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07:22Z</dcterms:created>
  <dc:creator>LG</dc:creator>
  <dc:description/>
  <dc:language>en-US</dc:language>
  <cp:lastModifiedBy>LG</cp:lastModifiedBy>
  <dcterms:modified xsi:type="dcterms:W3CDTF">2010-01-31T19:36:57Z</dcterms:modified>
  <cp:revision>29</cp:revision>
  <dc:subject/>
  <dc:title>JASÓN Y LOS ARGONAUTAS</dc:title>
</cp:coreProperties>
</file>